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11AE-D213-4994-8F84-F32FB3E7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A79A-1054-4269-AC4C-6C27E5FA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9AC4-BAC5-4ABA-B272-846EEA80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76E-4F40-4C4D-A415-CABF6589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D213-667C-4C1C-BCA2-F24F1420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03C5-DD28-4412-9BAE-0F9925BE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8528-F8A5-431C-B3ED-6DDF0696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DCA6-7993-4107-BD9F-3735AECE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9F62-170E-4D68-891F-2D631019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EFDD-63EB-4A9E-8336-F4B983A8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DBE8-B85D-4EEA-9BA8-954E7CC9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945-4D15-4AA1-B982-47D63685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6F0B-0105-4CB2-9BE2-1682BA5AAD4C}" type="datetime5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Towards a Sustainable Agricultur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523B-AAF4-45A3-802A-35CD66A01C8A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sciencenews.org/article/scientists-watch-bacteria-evolve-antibiotic-resistance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theguardian.com/internationa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3300" spc="-1" strike="noStrike">
                <a:solidFill>
                  <a:srgbClr val="000000"/>
                </a:solidFill>
                <a:latin typeface="Calibri Light"/>
              </a:rPr>
              <a:t>Antibacterial resistanc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s://www.sciencenews.org/article/scientists-watch-bacteria-evolve-antibiotic-resistan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3300" spc="-1" strike="noStrike">
                <a:solidFill>
                  <a:srgbClr val="000000"/>
                </a:solidFill>
                <a:latin typeface="Calibri Light"/>
              </a:rPr>
              <a:t>Write your own definition for the following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gro-ecosystem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Food system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roduction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rocessing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Distribution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onsumption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Waste Management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Value added Marketing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Value added Product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EC5A-855E-444E-981F-CE7B3CF186D7}" type="datetime5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Towards a Sustainable Agricultur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911E-6E92-445F-A8ED-964E7C7B63A4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A </a:t>
            </a:r>
            <a:r>
              <a:rPr b="1" i="1" lang="en-US" sz="5400" spc="-1" strike="noStrike">
                <a:solidFill>
                  <a:srgbClr val="24ac16"/>
                </a:solidFill>
                <a:latin typeface="Papyrus"/>
              </a:rPr>
              <a:t>System</a:t>
            </a:r>
            <a:r>
              <a:rPr b="1" lang="en-US" sz="5400" spc="-1" strike="noStrike">
                <a:solidFill>
                  <a:srgbClr val="5b9bd5"/>
                </a:solidFill>
                <a:latin typeface="Papyrus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is: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2949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a regularly interacting or interdependent  group of items forming a unified whol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15D5-CC25-47C1-A811-308F830DF104}" type="datetime5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wards a Sustainable Agricultur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46EB-BAF6-4699-B288-89EBE79B9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7" descr="rosman_field copy"/>
          <p:cNvPicPr/>
          <p:nvPr/>
        </p:nvPicPr>
        <p:blipFill>
          <a:blip r:embed="rId1"/>
          <a:stretch/>
        </p:blipFill>
        <p:spPr>
          <a:xfrm>
            <a:off x="2209680" y="3124080"/>
            <a:ext cx="4388040" cy="29624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An </a:t>
            </a:r>
            <a:r>
              <a:rPr b="1" i="1" lang="en-US" sz="5400" spc="-1" strike="noStrike">
                <a:solidFill>
                  <a:srgbClr val="24ac16"/>
                </a:solidFill>
                <a:latin typeface="Papyrus"/>
              </a:rPr>
              <a:t>Ecosystem</a:t>
            </a: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 is: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71600" y="914400"/>
            <a:ext cx="6781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the interactions of</a:t>
            </a:r>
            <a:r>
              <a:rPr b="0" lang="en-US" sz="3300" spc="-1" strike="noStrike">
                <a:solidFill>
                  <a:srgbClr val="44546a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ving organism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physical environment in a geographic loc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CBBD-591B-46DE-B86F-5C2CFDF72DAE}" type="datetime5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wards a Sustainable Agricultur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9C5A-67E9-4744-AB81-576919C4E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Switchgrass%20Sunset%20color copy"/>
          <p:cNvPicPr/>
          <p:nvPr/>
        </p:nvPicPr>
        <p:blipFill>
          <a:blip r:embed="rId1"/>
          <a:stretch/>
        </p:blipFill>
        <p:spPr>
          <a:xfrm>
            <a:off x="4800600" y="4267080"/>
            <a:ext cx="2751120" cy="19764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24ac16"/>
                </a:solidFill>
                <a:latin typeface="Papyrus"/>
              </a:rPr>
              <a:t>Ecosystems</a:t>
            </a:r>
            <a:r>
              <a:rPr b="1" lang="en-US" sz="5400" spc="-1" strike="noStrike">
                <a:solidFill>
                  <a:srgbClr val="0563c1"/>
                </a:solidFill>
                <a:latin typeface="Papyru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4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, transform, and waste </a:t>
            </a:r>
            <a:r>
              <a:rPr b="1" lang="en-US" sz="3200" spc="-1" strike="noStrike">
                <a:solidFill>
                  <a:srgbClr val="24ac16"/>
                </a:solidFill>
                <a:latin typeface="Calibri"/>
              </a:rPr>
              <a:t>energy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sunlight, food, fossil fuels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ycle, lose, and get</a:t>
            </a:r>
            <a:r>
              <a:rPr b="0" lang="en-US" sz="3200" spc="-1" strike="noStrike">
                <a:solidFill>
                  <a:srgbClr val="0563c1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24ac16"/>
                </a:solidFill>
                <a:latin typeface="Calibri"/>
              </a:rPr>
              <a:t>nutrien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itrogen, phosphorus, potassium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928B-6503-4EAD-B2A4-62697B9F9665}" type="datetime5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wards a Sustainable Agricultur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339A-358B-4924-A288-F64D1550F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4900"/>
            </a:br>
            <a:r>
              <a:rPr b="1" i="1" lang="en-US" sz="5400" spc="-1" strike="noStrike">
                <a:solidFill>
                  <a:srgbClr val="24ac16"/>
                </a:solidFill>
                <a:latin typeface="Papyrus"/>
              </a:rPr>
              <a:t>Ecosystem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B1DB-097D-4813-B2F7-B2B1A7A5A641}" type="datetime5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wards a Sustainable Agricultur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34FE-73DA-4BF1-9C2F-70F501391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362320" y="3124080"/>
            <a:ext cx="2971800" cy="2743200"/>
          </a:xfrm>
          <a:prstGeom prst="ellipse">
            <a:avLst/>
          </a:prstGeom>
          <a:solidFill>
            <a:srgbClr val="ed7d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trien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6934320" y="2438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e6e6"/>
                </a:solidFill>
                <a:latin typeface="Times New Roman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5"/>
          <p:cNvSpPr/>
          <p:nvPr/>
        </p:nvSpPr>
        <p:spPr>
          <a:xfrm flipH="1">
            <a:off x="4876560" y="3124080"/>
            <a:ext cx="2057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5563440" y="31273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"/>
          <p:cNvSpPr/>
          <p:nvPr/>
        </p:nvSpPr>
        <p:spPr>
          <a:xfrm flipH="1">
            <a:off x="2971440" y="43434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380988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4419720" y="42670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915120" y="38131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1370880" y="282240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tr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1066680" y="4879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3"/>
          <p:cNvSpPr/>
          <p:nvPr/>
        </p:nvSpPr>
        <p:spPr>
          <a:xfrm>
            <a:off x="2286000" y="3200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4"/>
          <p:cNvSpPr/>
          <p:nvPr/>
        </p:nvSpPr>
        <p:spPr>
          <a:xfrm flipH="1">
            <a:off x="167616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5"/>
          <p:cNvSpPr/>
          <p:nvPr/>
        </p:nvSpPr>
        <p:spPr>
          <a:xfrm flipH="1">
            <a:off x="1676160" y="472428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An </a:t>
            </a:r>
            <a:r>
              <a:rPr b="1" lang="en-US" sz="5400" spc="-1" strike="noStrike">
                <a:solidFill>
                  <a:srgbClr val="24ac16"/>
                </a:solidFill>
                <a:latin typeface="Papyrus"/>
              </a:rPr>
              <a:t>Agro-ecosystem</a:t>
            </a:r>
            <a:r>
              <a:rPr b="1" lang="en-US" sz="5400" spc="-1" strike="noStrike">
                <a:solidFill>
                  <a:srgbClr val="0563c1"/>
                </a:solidFill>
                <a:latin typeface="Papyrus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is: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45880" y="1981080"/>
            <a:ext cx="57942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 ecosystem that 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naged to produc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od or fib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F85E-EA39-4843-8558-5ADF76466969}" type="datetime5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wards a Sustainable Agricultur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5E5D-7D35-42B3-A16A-DFCBF3C18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Farmoval"/>
          <p:cNvPicPr/>
          <p:nvPr/>
        </p:nvPicPr>
        <p:blipFill>
          <a:blip r:embed="rId1"/>
          <a:stretch/>
        </p:blipFill>
        <p:spPr>
          <a:xfrm>
            <a:off x="4495680" y="4038480"/>
            <a:ext cx="3353040" cy="21621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A </a:t>
            </a:r>
            <a:r>
              <a:rPr b="1" lang="en-US" sz="5400" spc="-1" strike="noStrike">
                <a:solidFill>
                  <a:srgbClr val="24ac16"/>
                </a:solidFill>
                <a:latin typeface="Papyrus"/>
              </a:rPr>
              <a:t>Food System</a:t>
            </a: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 is: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way that food moves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rom the farm to the consum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D827-2E07-4AA5-970D-BEA4A0255F75}" type="datetime5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wards a Sustainable Agricultur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65DE-C36C-4D09-89E5-64FE29CE9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295280" y="4114800"/>
            <a:ext cx="7620120" cy="1981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7" descr="veggies"/>
          <p:cNvPicPr/>
          <p:nvPr/>
        </p:nvPicPr>
        <p:blipFill>
          <a:blip r:embed="rId1"/>
          <a:stretch/>
        </p:blipFill>
        <p:spPr>
          <a:xfrm>
            <a:off x="3505320" y="4495680"/>
            <a:ext cx="1218960" cy="1086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Store"/>
          <p:cNvPicPr/>
          <p:nvPr/>
        </p:nvPicPr>
        <p:blipFill>
          <a:blip r:embed="rId2"/>
          <a:stretch/>
        </p:blipFill>
        <p:spPr>
          <a:xfrm>
            <a:off x="5410080" y="4648320"/>
            <a:ext cx="1524240" cy="1071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house"/>
          <p:cNvPicPr/>
          <p:nvPr/>
        </p:nvPicPr>
        <p:blipFill>
          <a:blip r:embed="rId3"/>
          <a:stretch/>
        </p:blipFill>
        <p:spPr>
          <a:xfrm>
            <a:off x="7620120" y="4572000"/>
            <a:ext cx="1143000" cy="1109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Farmoval"/>
          <p:cNvPicPr/>
          <p:nvPr/>
        </p:nvPicPr>
        <p:blipFill>
          <a:blip r:embed="rId4"/>
          <a:stretch/>
        </p:blipFill>
        <p:spPr>
          <a:xfrm>
            <a:off x="1371600" y="4572000"/>
            <a:ext cx="1676520" cy="1081080"/>
          </a:xfrm>
          <a:prstGeom prst="rect">
            <a:avLst/>
          </a:prstGeom>
          <a:ln w="0">
            <a:noFill/>
          </a:ln>
        </p:spPr>
      </p:pic>
      <p:sp>
        <p:nvSpPr>
          <p:cNvPr id="138" name="Line 11"/>
          <p:cNvSpPr/>
          <p:nvPr/>
        </p:nvSpPr>
        <p:spPr>
          <a:xfrm>
            <a:off x="3124080" y="5029200"/>
            <a:ext cx="457200" cy="0"/>
          </a:xfrm>
          <a:prstGeom prst="line">
            <a:avLst/>
          </a:prstGeom>
          <a:ln w="38160">
            <a:solidFill>
              <a:srgbClr val="e7e6e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4800600" y="5105520"/>
            <a:ext cx="457200" cy="0"/>
          </a:xfrm>
          <a:prstGeom prst="line">
            <a:avLst/>
          </a:prstGeom>
          <a:ln w="38160">
            <a:solidFill>
              <a:srgbClr val="e7e6e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7086600" y="5181480"/>
            <a:ext cx="457200" cy="0"/>
          </a:xfrm>
          <a:prstGeom prst="line">
            <a:avLst/>
          </a:prstGeom>
          <a:ln w="38160">
            <a:solidFill>
              <a:srgbClr val="e7e6e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Parts of a food system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440" y="1676160"/>
            <a:ext cx="7699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1713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24ac16"/>
              </a:buClr>
              <a:buFont typeface="Arial Black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24ac16"/>
                </a:solidFill>
                <a:latin typeface="Arial Black"/>
              </a:rPr>
              <a:t>Produ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how the food is cultivated or 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24ac16"/>
              </a:buClr>
              <a:buFont typeface="Arial Black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24ac16"/>
                </a:solidFill>
                <a:latin typeface="Arial Black"/>
              </a:rPr>
              <a:t>Processing</a:t>
            </a:r>
            <a:r>
              <a:rPr b="0" lang="en-US" sz="2400" spc="-1" strike="noStrike">
                <a:solidFill>
                  <a:srgbClr val="24ac16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ifying the raw farm products in preparation for markets (cleaning, butchering, manufacturing, packaging, cooking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24ac16"/>
              </a:buClr>
              <a:buFont typeface="Arial Black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24ac16"/>
                </a:solidFill>
                <a:latin typeface="Arial Black"/>
              </a:rPr>
              <a:t>Distribu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how the food is moved from the farm to the processor or consum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24ac16"/>
              </a:buClr>
              <a:buFont typeface="Arial Black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24ac16"/>
                </a:solidFill>
                <a:latin typeface="Arial Black"/>
              </a:rPr>
              <a:t>Consump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how and where the food is ea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24ac16"/>
              </a:buClr>
              <a:buFont typeface="Arial Black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24ac16"/>
                </a:solidFill>
                <a:latin typeface="Arial Black"/>
              </a:rPr>
              <a:t>Waste management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the waste products (leftovers or byproducts) are managed after processing or consumer u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9CC8-85A8-4AD8-A04B-D5043308C6A9}" type="datetime5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wards a Sustainable Agricultur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728E-233F-4193-8E06-BCEDC6C99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2819-F5B0-402A-9CB9-D75043443F26}" type="datetime5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wards a Sustainable Agricultur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B447-2F73-4306-BCB7-462807F83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7" descr="https://www.ces.ncsu.edu/wp-content/uploads/2013/06/Local-Foods-System-Diagram-no-title.jpg"/>
          <p:cNvPicPr/>
          <p:nvPr/>
        </p:nvPicPr>
        <p:blipFill>
          <a:blip r:embed="rId1"/>
          <a:stretch/>
        </p:blipFill>
        <p:spPr>
          <a:xfrm>
            <a:off x="1187280" y="685800"/>
            <a:ext cx="67694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3300" spc="-1" strike="noStrike">
                <a:solidFill>
                  <a:srgbClr val="000000"/>
                </a:solidFill>
                <a:latin typeface="Calibri Light"/>
              </a:rPr>
              <a:t>Food dolla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alibri"/>
              </a:rPr>
              <a:t>https://vimeo.com/5714163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Date Placeholder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CDA7-2235-46AE-B6CB-29CBE9169506}" type="datetime5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Towards a Sustainable Agricultur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85B5-3AD7-40CA-B29C-136C7ACE6B2E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s://www.theguardian.com/internationa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alibri"/>
              </a:rPr>
              <a:t>What was on the front page of the ‘best’ newspaper in the world today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6439-5FDE-41B5-983D-6AA1B33F9E1B}" type="datetime5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Towards a Sustainable Agricultur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2312-8319-42B4-9E06-763A7DE7D6CE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1A1E-F5B6-4156-8C9C-DFA8B25352E1}" type="datetime5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Towards a Sustainable Agricultur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EF32-88B6-4AEC-81F0-E23022E50C59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3EE0-F97D-4EFB-B798-685DBEB84142}" type="datetime5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Towards a Sustainable Agricultur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EBBB-90A6-4E2B-906C-89665A41D3B3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http://www.bq-magazine.com/wp-content/uploads/2015/03/Food-waste-statistics.png"/>
          <p:cNvPicPr/>
          <p:nvPr/>
        </p:nvPicPr>
        <p:blipFill>
          <a:blip r:embed="rId1"/>
          <a:stretch/>
        </p:blipFill>
        <p:spPr>
          <a:xfrm>
            <a:off x="784080" y="1825560"/>
            <a:ext cx="75758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3300" spc="-1" strike="noStrike">
                <a:solidFill>
                  <a:srgbClr val="000000"/>
                </a:solidFill>
                <a:latin typeface="Calibri Light"/>
              </a:rPr>
              <a:t>Quick Activity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alibri"/>
              </a:rPr>
              <a:t>1. Write down everything you ate yesterda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alibri"/>
              </a:rPr>
              <a:t>2. Choose one item and write a brief sentence for each of the following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alibri"/>
              </a:rPr>
              <a:t>How is it 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produc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How is it Process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How is it Distribut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How is it consumed (cooked, prepared)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How is the Waste Managed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9EC3-129B-4CDC-B217-AA080352B389}" type="datetime5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Towards a Sustainable Agricultur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B0C7-8F14-4007-BDB0-D000BC12AEC1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 Light"/>
              </a:rPr>
              <a:t>here are some commonly-bought food items, their retail prices and the portion of the money that goes toward to the farmer: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acon, $4.39, $0.55 (12.5%)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read, $3.39, $0.15 (4.4%)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ggs, $2.59, $0.74 (28.6%)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ilk, $3.99, $1.30 (32.6%)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ttuce, $1.99, $0.37 (18.6%)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hips, $3.99, $0.09 (2.3%)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eer, $6.29, $0.10 (1.6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observations can we ma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4201-8A08-4299-AD16-B74FE6198AE2}" type="datetime5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Towards a Sustainable Agricultur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AFC7-A32A-44E5-AEDE-ABA267808719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 Light"/>
              </a:rPr>
              <a:t>This gets us thinking about the food system overall. How much does it cost and where does the money go?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Why is a dozen eggs 5$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B1E8-BAAF-4BD1-8635-F1E60CEC4020}" type="datetime5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Towards a Sustainable Agricultur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6FD6-2D27-458B-9FBA-882DD1A64A82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6"/>
          <p:cNvSpPr/>
          <p:nvPr/>
        </p:nvSpPr>
        <p:spPr>
          <a:xfrm>
            <a:off x="4267080" y="1981080"/>
            <a:ext cx="4038840" cy="37386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3300" spc="-1" strike="noStrike">
                <a:solidFill>
                  <a:srgbClr val="000000"/>
                </a:solidFill>
                <a:latin typeface="Calibri Light"/>
              </a:rPr>
              <a:t>Food dolla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alibri"/>
              </a:rPr>
              <a:t>https://vimeo.com/5714163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0447-EDF6-4F4C-97E1-4E303552D0B0}" type="datetime5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Towards a Sustainable Agricultur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8AAB-F1C9-48F9-B340-28BC0E21EDD8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Date Placeholder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6AB0-05F2-48E9-AED3-3DD185F4CF79}" type="datetime5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ooter Placeholder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wards a Sustainable Agricultur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CC0D-EC26-400B-A75B-C24CD3036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rcRect l="0" t="34446" r="57500" b="26296"/>
          <a:stretch/>
        </p:blipFill>
        <p:spPr>
          <a:xfrm>
            <a:off x="615960" y="1295280"/>
            <a:ext cx="77724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talie</dc:creator>
  <dc:description/>
  <dc:language>en-US</dc:language>
  <cp:lastModifiedBy>Sean</cp:lastModifiedBy>
  <dcterms:modified xsi:type="dcterms:W3CDTF">2016-09-21T13:41:43Z</dcterms:modified>
  <cp:revision>82</cp:revision>
  <dc:subject/>
  <dc:title>PowerPoint Presentation</dc:title>
</cp:coreProperties>
</file>